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C57-F243-4FA1-8A4E-DA81EC24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D74-1727-45E6-94C6-E37D25DB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320-34C6-4FEC-8170-E9CA0A0A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B8B-58E2-4777-B5AC-1C1E9608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390-ADDD-4A78-AF87-5D632262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2D1-CCD8-4A7F-81DE-079D9948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261-5F78-477E-A4A1-9025E2A7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ABC-AC42-45BC-AF6E-6E707375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156-CD68-4739-A7F1-D68D3A1F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37B-1020-471B-B042-90CF64C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E53-79AF-4DFA-BF8F-AD2617FA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53C-0C12-4846-948D-603044F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5F25-082A-4A0C-9597-94C383E7B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ing Information Produc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screen User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Word: QUIRT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-Screen Vs Printe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ed documentation, sequential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contents &amp;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screen documentation, use of hyperlinked text so doesn’t need to be sequ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Guides &amp; Instruction Manua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vided free on CD or DVD, with eg. hardware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urpose is to inform &amp; instruct re, characteristics, capabilities &amp; functions of h/w or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pics include: how to start, how to perform typical functions,eg. create new file, save, etc. &amp; print, exit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ts include PDF &amp; hype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Start Gu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with device fo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 or inexperienc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, simple instructions, eg. new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in brief text &amp; screen shots, animation or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house user docu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employees or clients to use a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, in-house protocols, eg. access, security, file-naming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guides for customised informatio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ither PDF or hypertext so can be readily accessed on screens in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Me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vided by manufacturer with h/w &amp;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ain information re, system requirements, configuration setting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ain latest news about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rs read these when installing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t, generally text files, or hypte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ep-by-step for using features &amp; functions of s/w program or h/w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t, text &amp; graphics, PDF or hypertext or video and soun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be downloaded from manufacturer’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wnloaded from third party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archable information about using the features &amp; functions of a s/w or h/w product; tutorials for using features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ent-sensitive help, where help responds to current content a s/w user is accessing &amp; offers hints or assistance, eg. starting to type a letter; use of autocorrect; autocomplete macr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pic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nowledgebase or database of general information topics abou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ugs &amp;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echn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blogs &amp; community based web support when information from manufacturer is inadequate or share knowledge &amp;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23:24:14Z</dcterms:created>
  <dc:creator>Kelvin Baird</dc:creator>
  <dc:description/>
  <dc:language>en-US</dc:language>
  <cp:lastModifiedBy>Kelvin Baird</cp:lastModifiedBy>
  <dcterms:modified xsi:type="dcterms:W3CDTF">2007-07-09T00:39:56Z</dcterms:modified>
  <cp:revision>3</cp:revision>
  <dc:subject/>
  <dc:title>Supporting Information Products  </dc:title>
</cp:coreProperties>
</file>